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eers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659-8555-48DA-A008-6CE684E7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189-B807-44C9-87F2-679A9EDE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E99-DC5B-46D8-AB82-107ACD3E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1EE-D050-4881-89AE-9B0F8162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D35-9725-424E-98D5-DF4BBE5D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1C7B-3120-4D32-B47B-3A89AF4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B6DD-968C-4A76-BB4C-DBB3148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F326-AEE5-4234-9079-316DCE1E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11A7-3E37-4493-A1E5-8B7D640B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C8EC-4646-4356-9117-ED2CC67C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F48-095C-4C40-BD83-A3DDC7F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B9D-2B5A-4957-B8E2-A3C375C3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6FF-EAD6-41A7-AFF5-46CFF4A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43E8-5B1F-4683-B17D-9164A53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EA02-02DB-4328-9BCB-F6458E9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B1AF-5863-4465-8A5E-47B38C04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4B08-01E3-4893-A6EA-A092D5FF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448-62B4-4FCB-A732-78E1C0D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7CD-BDDE-4CBD-869B-EED4E4B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FB4-1B74-43BE-B315-A6287F8A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900-B1F7-4045-8E30-049CCC8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47D-C31C-47A4-A881-50CF91A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E98-DE92-4A6B-BDBE-08360A4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5CD-B6FD-4A9A-AE97-E6DE96D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C103-41AC-46EA-923D-2D437BD8A57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BAB-795D-4BA3-BA85-7FB6BA677C9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r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92360" y="2362320"/>
            <a:ext cx="71276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228600"/>
            <a:ext cx="571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y mother taught me about Stamin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229360"/>
            <a:ext cx="892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You’ll sit there ‘till all that spinach is finished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304920"/>
            <a:ext cx="289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y mother taught me about Hypocris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4005360"/>
            <a:ext cx="52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f I’ve told you once, I’ve told you a million times - Don’t Exaggerate!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228600"/>
            <a:ext cx="85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y mother taught me the Circle of Lif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365720"/>
            <a:ext cx="896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 brought you into this world, and I can take you out…”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9810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y mother taught me about Behavior Modification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530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top acting like your father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0"/>
            <a:ext cx="381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y mother taught me about envy -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89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millions of less fortunate children in this world who don’t have wonderful parents like you do!”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920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2114640"/>
            <a:ext cx="7315200" cy="47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ve 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ea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y. . 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524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87280" y="0"/>
            <a:ext cx="37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My mother taught me to appreciate a job well don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08240"/>
            <a:ext cx="4427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99ff33"/>
                </a:solidFill>
                <a:latin typeface="Comic Sans MS"/>
              </a:rPr>
              <a:t>If you’re going to kill each other, do it outside …... I just finished cleaning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  <p:sndAc>
      <p:stSnd>
        <p:snd r:embed="rId2" name="cheer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35560" y="0"/>
            <a:ext cx="47084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40464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y mother taught me Relig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41720"/>
            <a:ext cx="441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You better pray that will come out of the carpet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80880"/>
            <a:ext cx="304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y mother taught me about Time Trave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0"/>
            <a:ext cx="2700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f you don’t straighten up, I’m going to knock you into the middle of next week!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06064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My mother taught me Logic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40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Because I said so, that’s why.”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45720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y mother taught me Foresigh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0"/>
            <a:ext cx="3200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ke sure you wear clean underwear, in case you’re in an accident.”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9640" y="26028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y mother taught me Irony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425920"/>
            <a:ext cx="82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Keep laughing and I’ll give you something to cry about.”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8600"/>
            <a:ext cx="3809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y mother taught me about the science of Osmosi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492280"/>
            <a:ext cx="2819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hut your mouth and eat your supper!”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85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My mother taught me about Contortionism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9417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0066ff"/>
                </a:solidFill>
                <a:latin typeface="Comic Sans MS"/>
              </a:rPr>
              <a:t>Will you look at the dirt on the back of your neck!”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 advTm="8000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3:54:01Z</dcterms:created>
  <dc:creator>IT Services</dc:creator>
  <dc:description/>
  <dc:language>en-US</dc:language>
  <cp:lastModifiedBy>Gay Robertson</cp:lastModifiedBy>
  <dcterms:modified xsi:type="dcterms:W3CDTF">2007-03-27T22:45:46Z</dcterms:modified>
  <cp:revision>1</cp:revision>
  <dc:subject/>
  <dc:title>Slide 1</dc:title>
</cp:coreProperties>
</file>